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1C0-F8DD-46E4-8CDE-FF29F8EA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473-1557-4D1E-867B-8A6D0271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41F-E3F0-4C57-A66E-33D309A0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FF6-8596-4384-8D17-FB415351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809-7297-40CD-8E38-750967C9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AC6-CED5-47E9-8249-2585BF96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ECA-53A4-49B2-BD19-467BE16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741-5313-495C-A4FE-2A570424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7F8-F71B-4365-B12C-87C36A0C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B4E-02E1-4FB2-AC35-F0916A0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E4F-F1A7-4629-8709-E9589B5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B41-934E-4A3D-8AF1-EC4B640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AE34-B0A2-4A73-875F-2FA4AE620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Group 7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5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AutoShape 11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6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6" name="Text Box 10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7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7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Laura McDow</cp:lastModifiedBy>
  <dcterms:modified xsi:type="dcterms:W3CDTF">2010-07-29T10:13:37Z</dcterms:modified>
  <cp:revision>7</cp:revision>
  <dc:subject/>
  <dc:title>No Slide Title</dc:title>
</cp:coreProperties>
</file>